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B4B2-7908-4234-A4EA-0EA0AE5F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076-2378-41F7-94D2-D1761C3D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E03-61F7-4E11-8703-EA87A6F9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84D-CEBA-4028-844D-68378536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2813-B590-4B01-9124-3B256DE9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CBF1-4AC1-4205-A1B3-B0FF846B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FA8B-EFFE-4A31-A4B5-C352281D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265B-A119-41C4-A013-D590B686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F090-CC81-405E-B85C-CFAEB730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9C47-1FB2-40D2-8E97-4EC6BCAE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37EC-C755-4F47-996C-225C7D23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2630-FDD4-4A17-B743-67867BB4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2032-2BA6-4477-9553-611DB1D7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4A2C-4D28-40F8-8B77-F9372229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962B-48AE-42E4-9CCC-67C5C630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BA09-71AC-4B65-AEEB-A22952DC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FEF4-5E12-4CE6-919B-987AC911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F285-CFE4-4C96-99A2-411FC843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BF4F-8589-4548-AF64-0DA6CDC5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67B-809A-4C8B-8D0D-0FCE8007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F801-F2AC-47A0-9515-A2FC2244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84B1-2138-40F8-B439-7C4FB086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0C0-E8D9-44FF-ABC0-A2CF3D5D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9E1E-256E-48B0-8DD7-60BF5E5E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bd3737"/>
                </a:gs>
                <a:gs pos="100000">
                  <a:srgbClr val="721e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21e1e"/>
                </a:gs>
                <a:gs pos="100000">
                  <a:srgbClr val="bd37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5AF1-1C0A-4991-AA9E-33A8EA42724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7cc2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d3737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bd37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BC63-703B-44DE-9DF1-5DF8E9E3142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en/b/ba/Flag_of_Germany.svg" TargetMode="External"/><Relationship Id="rId2" Type="http://schemas.openxmlformats.org/officeDocument/2006/relationships/image" Target="../media/image1.png"/><Relationship Id="rId3" Type="http://schemas.openxmlformats.org/officeDocument/2006/relationships/hyperlink" Target="file://upload.wikimedia.org/wikipedia/en/a/a4/Flag_of_the_United_States.svg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iegel.de/international/business/0,1518,822167-2,00.html" TargetMode="External"/><Relationship Id="rId2" Type="http://schemas.openxmlformats.org/officeDocument/2006/relationships/hyperlink" Target="http://www.fas.org/sgp/crs/row/R40961.pdf" TargetMode="External"/><Relationship Id="rId3" Type="http://schemas.openxmlformats.org/officeDocument/2006/relationships/hyperlink" Target="http://articles.latimes.com/2012/jan/22/business/la-fi-germany-middle-class-20120122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google.com/imgres?imgurl=http://cuthulan.files.wordpress.com/2011/04/doing-business-in-china-for-dummies.jpg%3Fw%3D450&amp;imgrefurl=http://cuthulan.wordpress.com/2011/04/20/bonuses-for-dummies-or-the-bonus-myth/&amp;usg=__kXPLqvGo1XvFtnpvx7PK_MvNGtI=&amp;h=300&amp;w=300&amp;sz=28&amp;hl=en&amp;start=68&amp;zoom=1&amp;tbnid=xXca1Yrb28-PtM:&amp;tbnh=116&amp;tbnw=116&amp;ei=ucdxT6bBM8q4twfw8tTCDw&amp;prev=/search%3Fq%3DGerman-american%2Beconomy%26start%3D63%26hl%3Den%26safe%3Dactive%26sa%3DN%26rlz%3D1T4ADSA_enUS434US446%26gbv%3D2%26tbm%3Disch&amp;itbs=1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ogle.com/imgres?imgurl=http://economictimes.indiatimes.com/photo/11069112.cms&amp;imgrefurl=http://articles.economictimes.indiatimes.com/2011-12-11/news/30504683_1_euro-crisis-angela-merkel-long-term&amp;usg=__IId_GF8B8WVW10s6Z5Semo2v9Gw=&amp;h=300&amp;w=400&amp;sz=13&amp;hl=en&amp;start=2&amp;zoom=1&amp;tbnid=Kanbzvdj0DLUNM:&amp;tbnh=93&amp;tbnw=124&amp;ei=dMZxT5-SF8rEtweB6ZHKDw&amp;prev=/search%3Fq%3DGerman-american%2Beconomy%26hl%3Den%26safe%3Dactive%26rlz%3D1T4ADSA_enUS434US446%26gbv%3D2%26tbm%3Disch&amp;itbs=1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File:Flag of Germany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File:Flag of the United States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95280" y="38088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cc2f"/>
                </a:solidFill>
                <a:latin typeface="Arial"/>
              </a:rPr>
              <a:t>German/American Re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22096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 learning from the German 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518148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Brian Bec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90-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ources: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7cc2f"/>
                </a:solidFill>
                <a:uFillTx/>
                <a:latin typeface="Tahoma"/>
                <a:hlinkClick r:id="rId1"/>
              </a:rPr>
              <a:t>http://www.spiegel.de/international/business/0,1518,822167-2,00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7cc2f"/>
                </a:solidFill>
                <a:uFillTx/>
                <a:latin typeface="Tahoma"/>
                <a:hlinkClick r:id="rId2"/>
              </a:rPr>
              <a:t>http://www.fas.org/sgp/crs/row/R40961.pd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7cc2f"/>
                </a:solidFill>
                <a:uFillTx/>
                <a:latin typeface="Tahoma"/>
                <a:hlinkClick r:id="rId3"/>
              </a:rPr>
              <a:t>http://articles.latimes.com/2012/jan/22/business/la-fi-germany-middle-class-201201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8001000" cy="4354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ulture Photo: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tatistics: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69576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rmany is beating the U.S. in nearly all levels of economic developm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Graphic: German and US Vital Statistics"/>
          <p:cNvPicPr/>
          <p:nvPr/>
        </p:nvPicPr>
        <p:blipFill>
          <a:blip r:embed="rId2"/>
          <a:stretch/>
        </p:blipFill>
        <p:spPr>
          <a:xfrm>
            <a:off x="1143000" y="1981080"/>
            <a:ext cx="350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tatistics (Cont.):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4495680"/>
            <a:ext cx="7543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erica loses approximately 200,000 jobs each year, leaving them with a curren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rmany boasts a shocking trade surplus of the equivalent of $158 billion, compared to the U.S. deficit of nearly $600 bill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1330031028687"/>
          <p:cNvPicPr/>
          <p:nvPr/>
        </p:nvPicPr>
        <p:blipFill>
          <a:blip r:embed="rId1"/>
          <a:stretch/>
        </p:blipFill>
        <p:spPr>
          <a:xfrm>
            <a:off x="1905120" y="1981080"/>
            <a:ext cx="5867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German Model: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es primarily upon exporting goods to the ever growing Chinese compani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ir focus on small business, and German-made products allows their economy to be self suffici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76600" y="3357720"/>
            <a:ext cx="190800" cy="142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476600" y="3357720"/>
            <a:ext cx="190800" cy="142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2286000"/>
            <a:ext cx="3581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German Model (Cont.):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erman idea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Kurzarbei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companies to hold onto skilled workers in times of economic insta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dea makes the company suffer in short term profit, but allows them to keep skilled labor to continue investing for the fu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U.S. Model: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day, only 9% of Americans work in factories, preferring instead to import produc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oss of jobs to foreign workers has led to an increase in unemployment (currently 8%), and thus a weaker econom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66320" y="4571640"/>
            <a:ext cx="7543800" cy="1981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29000" y="5181480"/>
            <a:ext cx="2590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How the U.S. is Adapting: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.S. in the long run has done very little to adapt, but think tanks have been created to look into future polic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.S. has begun looking into government and state support for research and development of new production polic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Questions: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whom does Germany focus its expor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U.S. ahead, or behind Germany in foreign trad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Answers: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h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05520" y="2666880"/>
            <a:ext cx="3348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3:43:58Z</dcterms:created>
  <dc:creator>SCSadmin</dc:creator>
  <dc:description/>
  <dc:language>en-US</dc:language>
  <cp:lastModifiedBy>SCSadmin</cp:lastModifiedBy>
  <dcterms:modified xsi:type="dcterms:W3CDTF">2012-03-28T13:37:12Z</dcterms:modified>
  <cp:revision>9</cp:revision>
  <dc:subject/>
  <dc:title>Slide 1</dc:title>
</cp:coreProperties>
</file>